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B09D2-0CE8-42A1-B65C-BB13B2B2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EEB4-A39C-4C86-9E5B-08CFFEDD9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A777B-527E-42B8-BC5E-2A334DFFF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3B481-56B8-487B-B227-B8F12CB29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12EE1-1A43-49A9-B06C-C87604EC1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56944-444A-4A41-B597-535B60C56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04E20-013D-44ED-BAF2-4CB697569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E8799-5E60-4D4E-8334-52C66DFF9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C5C73-58F6-4B56-B54F-652960883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9287B-5989-4AA2-BF6F-269BE0BBC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E80B-74F5-4D7C-B8CE-1CF2E1DF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B2A3C-19FF-4C9F-8586-2393A129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D932-3A51-4A88-A064-19E409FC5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235D0-2A31-4FF6-8B8F-D31144F96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F4F1-32DD-4181-AF1B-C7232B2FE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E0918-E1C5-4B47-87B0-816A964EE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9FDE3-E1E2-4FA6-9FAB-5399075E2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C6575-D454-4C94-B388-0271085B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8DE9D-DB7B-4605-A843-966BEDB8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2C56-C843-48FA-9D17-43A989853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5478-3795-48D1-B34C-8DA2018D9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ACD7-68C3-402C-8FBA-628241657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8CD7-C373-4442-8C40-E976216A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8FCF-D2B5-4254-A815-A8EE88570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3206-DC97-4BEA-BA06-CC3A8C565A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3DA9-95A3-4E5C-923D-19579CD94B9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layer.discoveryeducation.com/index.cfm?guidAssetId=99052A50-FBEA-433C-B3FA-5DA461A60045&amp;blnFromSearch=1&amp;productcode=US" TargetMode="External"/><Relationship Id="rId2" Type="http://schemas.openxmlformats.org/officeDocument/2006/relationships/hyperlink" Target="http://player.discoveryeducation.com/index.cfm?guidAssetId=4725F3C3-665A-4FD4-A774-8EF7A54E0108&amp;blnFromSearch=1&amp;productcode=US"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hapter 6: Sports &amp; Conditioning</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son 2: Sports &amp; Physical Welln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to Eat Cont’d…</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on’t load up on protein or fat. </a:t>
            </a:r>
            <a:r>
              <a:rPr b="0" lang="en-US" sz="2200" spc="-1" strike="noStrike">
                <a:solidFill>
                  <a:srgbClr val="ffffff"/>
                </a:solidFill>
                <a:latin typeface="Arial"/>
              </a:rPr>
              <a:t>An athlete does not need more protein or fats than a nonathlete. Eating 2-3 servings from the meat, poultry, fish, dry beans, eggs and nuts group daily will provide all the protein you nee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at breakfast. </a:t>
            </a:r>
            <a:r>
              <a:rPr b="0" lang="en-US" sz="2200" spc="-1" strike="noStrike">
                <a:solidFill>
                  <a:srgbClr val="ffffff"/>
                </a:solidFill>
                <a:latin typeface="Arial"/>
              </a:rPr>
              <a:t>You’ll perform better if you’ve given your body fuel to go 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rink plenty of water. </a:t>
            </a:r>
            <a:r>
              <a:rPr b="0" lang="en-US" sz="2200" spc="-1" strike="noStrike">
                <a:solidFill>
                  <a:srgbClr val="ffffff"/>
                </a:solidFill>
                <a:latin typeface="Arial"/>
              </a:rPr>
              <a:t>8 glasses are recommended each day for most individuals. If you are playing a sport, raise that to 9-13 glasses of water. While engaging in sports, you lose more water because you perspire. </a:t>
            </a:r>
            <a:r>
              <a:rPr b="0" lang="en-US" sz="2200" spc="-1" strike="noStrike">
                <a:solidFill>
                  <a:srgbClr val="ffff00"/>
                </a:solidFill>
                <a:latin typeface="Arial"/>
              </a:rPr>
              <a:t>Dehydration is excessive loss of water from the body. </a:t>
            </a:r>
            <a:r>
              <a:rPr b="0" lang="en-US" sz="2200" spc="-1" strike="noStrike">
                <a:solidFill>
                  <a:srgbClr val="ffffff"/>
                </a:solidFill>
                <a:latin typeface="Arial"/>
              </a:rPr>
              <a:t>It can cause muscle cramps and heatstroke, and it is also harmful to other body system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Figure 6.3 p. 156</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Before You Play – eat foods that are rich in complex carbs (bananas, bagels, and fruit juic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t about 1-2 hours before your gam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ink plenty of fluids as we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tors consider breakfast the most important meal of the da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cont’d….</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 During Your Gam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ink plenty of cool water, at least ½ cup every 20 minutes. </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to Eat, cont’d…</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3. After Your Gam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t a balanced meal with plenty of carbohydrates but also some proteins and fat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e sure that the meal also replenishes vitamins and mineral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e to drink water and other liqui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venting Injuries, p. 157</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ways warm up, stretch, and cool down.</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rn the proper techniques for your sport. For example, when you throw a ball, avoid overextending your elbow. When you land from a jump, bend your kne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you get injured, don’t return to play until you’ve been checked out by the coach, a trainer, or a doctor.</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rol your emotions. Getting angry may cloud your judgement and cause you to get hurt or hurt someone els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ective Equipment, Figure 6.4 p. 157</a:t>
            </a:r>
            <a:endParaRPr b="0" lang="en-US" sz="40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lmet</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e mask</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uth guar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roat guard</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dded chest protector</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st guar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hletic cup</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nee pads and elbow pa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in guard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athletic footwea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voiding Harmful Substances, p. 158</a:t>
            </a:r>
            <a:endParaRPr b="0" lang="en-US" sz="40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 can build strength and endurance safely with regular workouts and good nutrition. Some people however, use performance-enhancing drugs such as anabolic steroi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nabolic steroids are synthetic compounds that cause muscle tissue to develop at an abnormally high rat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bolic Steroids</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ve legitimate medical uses, such as treating some types of cancer.</a:t>
            </a:r>
            <a:r>
              <a:rPr b="0" lang="en-US" sz="2200" spc="-1" strike="noStrike">
                <a:solidFill>
                  <a:srgbClr val="ffff00"/>
                </a:solidFill>
                <a:latin typeface="Arial"/>
              </a:rPr>
              <a:t> It is illegal, however, to use them to improve athletic performance. They are also very dangerous because of their side effects:</a:t>
            </a:r>
            <a:endParaRPr b="0" lang="en-US" sz="22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n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akening of tendons</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mage to cardiovascular system</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ne damag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rmful effects on sexual characteristics, including growth of facial hair in females and breast development in males</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ntal and emotional effects – irritability, anxiety, suspicion, aggression</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ver and brain canc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deo</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1"/>
              </a:rPr>
              <a:t>Anabolic Steroid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999900"/>
                </a:solidFill>
                <a:uFillTx/>
                <a:latin typeface="Arial"/>
                <a:hlinkClick r:id="rId2"/>
              </a:rPr>
              <a:t>Anabolic Steroids 2</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LL ACTIVIT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ou are a professional athlete competing in the sport of your choice. Write down everything you eat and drink on the day before a big game or an important competition.</a:t>
            </a:r>
            <a:endParaRPr b="0" lang="en-US" sz="3100" spc="-1" strike="noStrike">
              <a:solidFill>
                <a:srgbClr val="ffffff"/>
              </a:solidFill>
              <a:latin typeface="Arial"/>
            </a:endParaRPr>
          </a:p>
        </p:txBody>
      </p:sp>
      <p:pic>
        <p:nvPicPr>
          <p:cNvPr id="94" name="" descr=""/>
          <p:cNvPicPr/>
          <p:nvPr/>
        </p:nvPicPr>
        <p:blipFill>
          <a:blip r:embed="rId1"/>
          <a:stretch/>
        </p:blipFill>
        <p:spPr>
          <a:xfrm>
            <a:off x="6705720" y="40384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mp; Energy p. 154</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 already know that to maintain your weight, you need to use the same number of calories as you put into your body by eating.</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f you play sports, you will use more energy.</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fore, to maintain your weight, you will need additional calori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mp; Energy…</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 all sports require the same amount of energy.</a:t>
            </a:r>
            <a:endParaRPr b="0" lang="en-US" sz="3100" spc="-1" strike="noStrike">
              <a:solidFill>
                <a:srgbClr val="ffffff"/>
              </a:solidFill>
              <a:latin typeface="Arial"/>
            </a:endParaRPr>
          </a:p>
        </p:txBody>
      </p:sp>
      <p:pic>
        <p:nvPicPr>
          <p:cNvPr id="99" name="" descr=""/>
          <p:cNvPicPr/>
          <p:nvPr/>
        </p:nvPicPr>
        <p:blipFill>
          <a:blip r:embed="rId1"/>
          <a:stretch/>
        </p:blipFill>
        <p:spPr>
          <a:xfrm>
            <a:off x="2362320" y="2362320"/>
            <a:ext cx="5562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Sports and Energy Use</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igh Energy Sports (Over 350)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oss-country ski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cquet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pe Jump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n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cc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Cont’d…</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rate-energy Sports (250-350)</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erobic Danc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dminton</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line and ice-skat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wimm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nni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leybal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e 6.2 Cont’d….</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w-energy Sports (less than 250)</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ball and softbal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ketball (halfcour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wl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lf</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ymnastic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k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do and Karate</a:t>
            </a:r>
            <a:endParaRPr b="0" lang="en-US" sz="2600" spc="-1" strike="noStrike">
              <a:solidFill>
                <a:srgbClr val="ffffff"/>
              </a:solidFill>
              <a:latin typeface="Arial"/>
            </a:endParaRPr>
          </a:p>
        </p:txBody>
      </p:sp>
      <p:pic>
        <p:nvPicPr>
          <p:cNvPr id="106" name="" descr=""/>
          <p:cNvPicPr/>
          <p:nvPr/>
        </p:nvPicPr>
        <p:blipFill>
          <a:blip r:embed="rId1"/>
          <a:stretch/>
        </p:blipFill>
        <p:spPr>
          <a:xfrm>
            <a:off x="5715000" y="2362320"/>
            <a:ext cx="1569960" cy="173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orts and Nutrition, p. 155</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Whether or not you are active in sports, you should have a balanced, nutritious die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etting enough complex carbohydrates, proteins, vitamins, and minerals – and not consuming too much fat – is important for anyon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f you play sports, however, you will need to keep your body supplied with additional energy.</a:t>
            </a:r>
            <a:endParaRPr b="0" lang="en-US" sz="2700" spc="-1" strike="noStrike">
              <a:solidFill>
                <a:srgbClr val="ffffff"/>
              </a:solidFill>
              <a:latin typeface="Arial"/>
            </a:endParaRPr>
          </a:p>
        </p:txBody>
      </p:sp>
      <p:pic>
        <p:nvPicPr>
          <p:cNvPr id="109" name="" descr=""/>
          <p:cNvPicPr/>
          <p:nvPr/>
        </p:nvPicPr>
        <p:blipFill>
          <a:blip r:embed="rId1"/>
          <a:stretch/>
        </p:blipFill>
        <p:spPr>
          <a:xfrm>
            <a:off x="7162920" y="457200"/>
            <a:ext cx="1331640" cy="129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to Eat, p. 155</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Eat plenty of complex carbohydrates. </a:t>
            </a:r>
            <a:r>
              <a:rPr b="0" lang="en-US" sz="2700" spc="-1" strike="noStrike">
                <a:solidFill>
                  <a:srgbClr val="ffffff"/>
                </a:solidFill>
                <a:latin typeface="Arial"/>
              </a:rPr>
              <a:t>Fruits and vegetables, pasta, and whole-grain breads will provide your body with carbohydrates, a very efficient source of energy, as well as fiber.</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Get enough vitamins and minerals. </a:t>
            </a:r>
            <a:r>
              <a:rPr b="0" lang="en-US" sz="2700" spc="-1" strike="noStrike">
                <a:solidFill>
                  <a:srgbClr val="ffffff"/>
                </a:solidFill>
                <a:latin typeface="Arial"/>
              </a:rPr>
              <a:t>Iron and calcium. Iron helps to supply your muscles with oxygen while you are exercising. (Red meat and green leafy veggies). Calcium strengthens bones and helps muscles work properly. (Dairy products, salmon, and collard green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3:34:55Z</dcterms:created>
  <dc:creator>GSCS</dc:creator>
  <dc:description/>
  <dc:language>en-US</dc:language>
  <cp:lastModifiedBy>GSCS</cp:lastModifiedBy>
  <dcterms:modified xsi:type="dcterms:W3CDTF">2010-11-09T20:35:29Z</dcterms:modified>
  <cp:revision>5</cp:revision>
  <dc:subject/>
  <dc:title>Chapter 6: Sports &amp; Conditioning</dc:title>
</cp:coreProperties>
</file>